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551B-4A6B-49E7-B902-4B611F9B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142C-6E64-415B-AC4D-F01F7B6C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107D-9E88-4E77-8F3A-12AF7D4E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E83-F999-405B-860E-356B945E8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A5940-3933-4AF5-A820-D3CFF0B0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700-52C2-4B59-83B7-8FF1583C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FA8DE-9009-4269-A138-ACB8B234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666E-6325-4FC2-BAC3-5A696A82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D3D4-399F-42C8-8080-64B6217C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879E-F00D-4F5D-A563-4A13EC22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B7D6-9A12-4C17-8CD2-1789340C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8689-F482-4BF9-B0BF-183916AB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0B1C-E8C8-4B5A-8128-D2848CFB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2FA11-4DC2-40D0-AE8A-928FABDE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D07D-FAF1-4570-80F2-C02E753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9C23E-6FC3-4C5C-A929-5B5B62E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A72F-C56C-4940-9B64-4343DB5B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5196-6C5F-49C7-9C80-EE6ABF25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FB883-5BC0-42F1-BB4E-3A8F3577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5B66-8E76-47EC-BFE3-EEBAA036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817C-A5B4-4154-A464-BC164A800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D033-7B4F-47B9-BC4F-BF29D1E7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FF5D-EA7B-451C-8911-9D3B3CDB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C61E-006F-4B15-8630-36DF21C8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7314-D3C0-487B-8BDD-33C49737D053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AF8DA-0975-43BF-B11D-2896FFA16E72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Do not turn on your computer!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iz First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Quiz!!!!  Study for five minut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aptop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inding Your Voice activity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12:57:32Z</dcterms:created>
  <dc:creator>User</dc:creator>
  <dc:description/>
  <dc:language>en-US</dc:language>
  <cp:lastModifiedBy>User</cp:lastModifiedBy>
  <dcterms:modified xsi:type="dcterms:W3CDTF">2006-09-13T17:52:54Z</dcterms:modified>
  <cp:revision>3</cp:revision>
  <dc:subject/>
  <dc:title>Agenda</dc:title>
</cp:coreProperties>
</file>